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C1E09-0BB7-4C47-8638-1A42142A204E}"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DFE77-A814-4BC9-A5DF-46573F894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85680" y="741240"/>
            <a:ext cx="4886640" cy="3665520"/>
          </a:xfrm>
          <a:prstGeom prst="rect">
            <a:avLst/>
          </a:prstGeom>
          <a:ln w="0">
            <a:noFill/>
          </a:ln>
        </p:spPr>
      </p:sp>
      <p:sp>
        <p:nvSpPr>
          <p:cNvPr id="1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3C605-04FD-4D6D-9D43-49D43E3A4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5B7EA-5864-4025-AC6D-EE4002E9A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F0126-3480-404C-B3AB-5CD4425E3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61A9D-0A18-47D4-8592-1EB12A7A1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2CAB9-CA9B-4014-AABF-927131B8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EE253-A8D1-48FB-8570-5BAB72B55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C4FC3-DC7F-4F89-9EB7-82303BA83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D7C41-3AA2-4732-9670-A54B5EFE9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AC70C-80BC-441E-A64F-857347568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C9B6A-DC1F-4D2C-9D12-A73243043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67F3B-AB94-4BDC-9AE3-E910E3ACC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96F82-C11C-4666-8423-0A38EF4A1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F0DB0-E732-4CF0-A51D-A50BEF4C1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19A16-3B6E-4924-B411-7EF6F494B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D4049-5419-49F0-A5B3-D7AE4EF9D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00EE5-FC2B-4DDE-BDDB-2F6539F03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28D7A-9D14-4673-B25D-9D4112594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00200-C790-432A-A0A4-D3B08E12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ACD70-ECAF-40DB-A37C-BF4C0D0D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71629-792C-4D77-ADF8-05FE57D6E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04C36-35BF-41A5-8405-779EAB49E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382C1-7133-4FF2-9873-F88920317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FF2B2-080F-41C9-90EA-164F1B7B6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F0E42-2847-411B-A113-7BEA4502D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0EC36-7995-4A81-9599-0A9FD7E69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1D9A7-B397-4D42-AD3A-9B9A3D472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97032-EEAD-4C18-A09C-FACE27263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ECCC9-E6F0-4E51-93EA-0D738739A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1EF49-0CCD-4126-B138-9E26E1313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118F2-806C-448B-9A8A-E9DA53039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85680" y="741240"/>
            <a:ext cx="4886640" cy="3665520"/>
          </a:xfrm>
          <a:prstGeom prst="rect">
            <a:avLst/>
          </a:prstGeom>
          <a:ln w="0">
            <a:noFill/>
          </a:ln>
        </p:spPr>
      </p:sp>
      <p:sp>
        <p:nvSpPr>
          <p:cNvPr id="1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C5404-613C-4E5C-95E0-D66C34BE6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A2081-8078-4401-93C9-AB252ECE2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1EB30-C0F7-4806-B422-C739DA7E7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C1866-DF30-4410-96AC-1287E9F31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2AC58-29BB-4535-82D5-217D09DE3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20C06-BA02-469C-A2CF-27D1DAD14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5076F-93F3-4DE1-83E5-037B294A6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69466-D8C7-488A-AAF8-E990AD051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ADB0A-9A42-417A-A495-110A2BA1A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614CE-9CDA-4C6E-812A-AD5A5DF92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B7523-1720-4D15-B462-E01CB72FA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985680" y="741240"/>
            <a:ext cx="4886640" cy="3665520"/>
          </a:xfrm>
          <a:prstGeom prst="rect">
            <a:avLst/>
          </a:prstGeom>
          <a:ln w="0">
            <a:noFill/>
          </a:ln>
        </p:spPr>
      </p:sp>
      <p:sp>
        <p:nvSpPr>
          <p:cNvPr id="1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5E98B-D493-4C77-99BD-15B845D5E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18B82-3F55-424B-9C31-B31CC9B12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1D46C-8477-4676-BCD0-F954DBF78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64710-56B7-4302-B39E-1A8FEE7DC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B2ADC-C968-4DC8-B87D-024DC36BE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DDEB4-436A-4C68-8A72-AB40BCC88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84449-D5D4-4E92-BEE2-7A8048976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BCAA8-C5CB-421C-9347-74FA1E33C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B44A0-D3F5-46C1-8E86-4A2D688F8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CF4F6-FAF5-40A6-8F93-0D97F06A2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83222-40E6-4915-9122-3BEF8E70D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85680" y="741240"/>
            <a:ext cx="4886640" cy="3665520"/>
          </a:xfrm>
          <a:prstGeom prst="rect">
            <a:avLst/>
          </a:prstGeom>
          <a:ln w="0">
            <a:noFill/>
          </a:ln>
        </p:spPr>
      </p:sp>
      <p:sp>
        <p:nvSpPr>
          <p:cNvPr id="16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07838-F577-4DD4-A5A5-B6C258D23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1BA3F-8E14-4F95-AAC2-F5237FCBA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1E27B-5D55-43D2-9C9F-1F1A59C1B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C031E-EEBD-44AD-A025-57E6BB3D5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CBDE5-0BE8-44A4-9475-2B91A8444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366F2-68BA-4083-AE42-F9E523984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8981C-C149-4E0D-82E4-1EE395778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76159-300B-45FA-B10A-0185969A1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68C65-1ADA-47C7-ADB5-04F0F7988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B1B90-CC4E-4083-A6CA-BFD1BA551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F5715-9952-43F5-AB2B-1A788852C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985680" y="741240"/>
            <a:ext cx="4886640" cy="3665520"/>
          </a:xfrm>
          <a:prstGeom prst="rect">
            <a:avLst/>
          </a:prstGeom>
          <a:ln w="0">
            <a:noFill/>
          </a:ln>
        </p:spPr>
      </p:sp>
      <p:sp>
        <p:nvSpPr>
          <p:cNvPr id="16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8F7DF-044A-479E-B742-87B3B082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C834B-DFB1-4963-9FBA-70B51B17C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D7E90-C9E2-4388-91B9-69F7C61F9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647CA-75B3-4FA9-9A31-2A934B5AB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542E1-7A49-4FB9-A500-31064D71D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B01C6-2818-40A0-BF14-48B635CE3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2D19D-672C-43D9-87CF-8CA8F4669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ED2C8-0A58-406E-AB5B-D8C068ECB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AF3E7-3C8F-40A1-A7CC-BBEFE0285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F1271-FB01-4870-BA12-E8D65B9F5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55C64-D154-4904-A866-39A84136D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85680" y="741240"/>
            <a:ext cx="4886640" cy="3665520"/>
          </a:xfrm>
          <a:prstGeom prst="rect">
            <a:avLst/>
          </a:prstGeom>
          <a:ln w="0">
            <a:noFill/>
          </a:ln>
        </p:spPr>
      </p:sp>
      <p:sp>
        <p:nvSpPr>
          <p:cNvPr id="1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22A6D-0547-4468-9AAA-A87362586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5ED08-FE05-4E00-AB31-861C95D9F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83D81-C4E8-4700-B16F-C741D4E84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8AF35-BA35-4B68-A64A-2B1B8E406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F1676-737A-4D50-B361-28537ED34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31467-6306-4B0E-860A-D1946DE5A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79E44-3A7A-4978-BACF-06CEB3160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D3BA0-A022-4C0B-894B-0F5FB0E24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F0E9D-BA53-49E9-8D6E-226B746FB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D0DDE-8D7B-4B2D-B81B-FC4ACF9BD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6E1CB-2E94-432B-A8B3-13435A09E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985680" y="741240"/>
            <a:ext cx="4886640" cy="3665520"/>
          </a:xfrm>
          <a:prstGeom prst="rect">
            <a:avLst/>
          </a:prstGeom>
          <a:ln w="0">
            <a:noFill/>
          </a:ln>
        </p:spPr>
      </p:sp>
      <p:sp>
        <p:nvSpPr>
          <p:cNvPr id="1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36727-D291-46F1-BB23-D7A4D0B9D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179C1-EDAF-4E4C-9E89-0CB4C5AED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300A3-4DD4-4837-BBA6-45DC21F15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C027D-FA54-4B33-BEA1-6C8F25E09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C2E6C-F7C3-46A4-A972-33A7AE25D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FB306-1FC4-4595-9168-9AE28D890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9BF37-06F3-4C9C-BE5E-72CEC4F7E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98299-32B3-415A-B8A0-85D231C86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6BC9C-9045-432C-9E48-6A23588C3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CD96F-4555-4CB4-8824-D8112CEE0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AEFD6-7BC0-4AE9-9F72-7AC5D21AE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85680" y="741240"/>
            <a:ext cx="4886640" cy="3665520"/>
          </a:xfrm>
          <a:prstGeom prst="rect">
            <a:avLst/>
          </a:prstGeom>
          <a:ln w="0">
            <a:noFill/>
          </a:ln>
        </p:spPr>
      </p:sp>
      <p:sp>
        <p:nvSpPr>
          <p:cNvPr id="1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3901E-9F25-4288-ACF5-4E5A55DD7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34B2B-76B1-424B-842A-7D5AAB5AE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E0DB5-2FED-42AE-85CC-826D90A7E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14F5F-F9A4-4451-881E-DD9548CF4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5C411-55D4-4D71-BCD0-642FAD8C6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BAA53-4459-45FF-B63C-EBF26755A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BB404-860A-471C-8529-B1B6996E8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E0E0A-F568-4574-B90C-A62EA7B21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89655-5A6E-4218-B027-F88DB2EDA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7040A-AA81-4177-9970-2834FD0D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D4A6D-A546-4A26-ACF0-F370AC0A2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985680" y="741240"/>
            <a:ext cx="4886640" cy="3665520"/>
          </a:xfrm>
          <a:prstGeom prst="rect">
            <a:avLst/>
          </a:prstGeom>
          <a:ln w="0">
            <a:noFill/>
          </a:ln>
        </p:spPr>
      </p:sp>
      <p:sp>
        <p:nvSpPr>
          <p:cNvPr id="16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FAC50-0B1B-454B-915A-0B2EBBCF6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6B3DF-EAAD-4AF4-8801-5DC83B7F2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4A7AE2-8A01-42B6-8466-A951CB19C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20864-1712-4769-8FD4-0DB91192E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FBBFB-3315-4A5E-B454-EEFA151E2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31F23-FCD9-451A-B030-0FC7A91A1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AD3FA-6DE9-4349-B79C-2E33C7D31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7D02A-5214-4A02-A54C-024005373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382C2-CF7A-4BBE-89D9-776B5D37B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8FFC9-2A7D-440B-82D5-DA6F6D7D1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BA4DA-8725-409F-9D2E-73FDCFD81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C158E7E-84B1-4D3D-A8F5-AB6983A10B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83ED31E-DA4B-4DEE-B42C-881D1C3353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4AB0BF5C-6388-4A58-A006-A662308EA5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1B6F61F-FCA0-4D31-A449-8DEF8F5EF8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354AFD2-0633-4A98-B17D-9F96A7B0DA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C3663B3-004E-4076-A2B1-4C7A381930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05A2A25-6A0B-478A-B579-D47E058A84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723800A-0328-4E05-9D15-B5A97FE5B1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9E2179E2-F92C-4ED2-8206-CC7D36A7E0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DAE1449-A9BB-4ED8-92A8-F4CE5803DC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78B37F-46B5-4D2B-A8E6-73FD0C898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7E0F463-5DAE-4E66-947B-A57855DE64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779D7E6-13B3-4BD8-B883-76E74DB66F6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3FE76E6-F34B-45C6-AE33-04E4D6CFB1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152352B-2A6F-4D2C-9354-3026EEB044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F81B6D7-25BB-4852-AFAF-44E93084CF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B72D4EC-9D28-453B-8760-99328CD112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4A86DA3-CDB5-4670-BF05-4B81F6BFF7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C67D79A-70BD-4046-90C8-C46A8D5693C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5FE8633-E754-4DFE-BF44-9B5FA14AC1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254B5F1-A9D2-4A0E-AD53-99A1366151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F044EBF0-54C3-4174-943B-315958CF3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C295415-A0B2-416E-ABD9-EDF35E6AA3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DFC8446-10A7-4D41-B206-2A6FF44431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0FA00C5-26CF-4314-8483-246A7235D9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7865077-8001-4494-AF28-F3AB260AAF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0D10D1B-C254-4A41-8F46-DB758B855F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65B0887-B64C-4755-A3BE-438236C82AF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C656AA8-148D-4985-8FA5-93C0E82DB8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C506880-104A-4A2A-9271-194157ADD24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4E8F67E-E2B2-4F50-8B43-4CD1F4CE9F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BE2D7FD-BB3D-4970-B900-7AEEB20875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4FDCF9D-8ADB-49CC-A8D6-D199C3D180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2CD8E3-8557-46B8-B1A0-AA91F17E7B0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8AC51BC-35B8-460D-A213-A67F33A2971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13A3D1B-4BAC-4D63-8AA2-108BB5DBD3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F39115F-CD34-426B-9919-C7277E63B3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C4B9D3-B547-40DC-9047-656F6A3A95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A1F3487-35BC-41AB-82DC-3947AC4779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23C5FE2-F33A-4A84-A560-16D8B2AFB9A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6D38CEA-B211-4857-A134-CE1237B22C3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2DE97DC-6D62-4BB3-B025-350A2ED1FE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49F1472-DDD6-4461-B843-6673324344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72914FC-B9C7-46FB-B0ED-FD9EF8C593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B9D2A7-AA06-460D-A7D7-D4D8EA0D70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7183AD4-8CD2-462D-A9C0-1D48FD405D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1D82083-C69A-469F-B394-EFAC4E03B0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4E562DC-0E88-4659-AE09-735E34C010B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C2C4D9B-0184-4680-8931-FF682443005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0FD514D-9248-4B25-9BED-9648313FEC0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98CEC74-DF79-461E-BF00-22A86BC631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2765A44-8327-4008-89BC-4EAA21783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E133749-4F7C-4B56-BD3D-049A1C662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C4C63E0-B83F-42B7-A762-247071FEE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A1BBB4B-C7DC-4708-8344-F5D092653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4BB001-AF4F-45E3-BAD4-D57B5AC5F88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E10FE02-47E9-4E06-88EA-11827D324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E49083D-0350-4517-92F4-36EFB043A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6068288-B4B3-417A-A96F-4EFAE5308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894A58E-E0B0-48D8-AC09-BE4BF9CA3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07B36E2-3965-4CC7-BAEF-3A232F83B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73BC355-C247-4994-B86A-3A2D59D5F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8401E5E-71B5-449B-A817-E3CCE18FCE8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0C404C2-31EE-41A7-8DBC-3B05C93BD7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8411B2B-A345-4E30-A2B6-080CC1189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81D27CA-1605-4231-8D53-AEE4D6EB2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B54C352-33F9-460D-9CE7-B8A49C62BC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8D743BE-CC8D-4B07-8D10-113FDBF28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F26AAC-6F1C-48A3-9C3D-7A3E738C9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9CBC705-6B75-4D1B-8BD9-C5FC2C4923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DE3468-68A5-4AE2-9C92-3C5E37F337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99BAFDF-E963-468B-8CF5-5C89390B7D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0921694-1363-436B-8221-C95A773C8C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C30A33-CB4F-43E6-AF9A-A8520ED9C4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A92861-BA86-48F9-9385-BB177CE8F4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857EF9-6E63-437D-AF41-2DAAF872B0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305FE1C-BC9D-4E59-B4A5-D66C9CE65D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2279B8-0AAB-4429-B5E2-CBDFEB3F50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0C2EA60-A6C5-4651-A6C2-24C4BA134C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A7138ED-5ED6-4A4B-AB37-A17A0652AA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EFA6286-F124-4837-9057-BA51C3EB29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09F3D7-1C23-4E97-B06C-CAC1A670F6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A60351E-9C30-4D15-B723-6BEEA26519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0CFF95A-F2A0-4DC8-8466-B47E895627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DBEA6CE-CEF0-4405-AFDE-B81CE75454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16EBAAC-12BA-407D-B5DF-0A52F89CA7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1FD6FD-E796-4468-93CE-18A157FFC7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8A41CB5-2414-480E-A978-57BD187ABA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C54D4C3-9140-474A-A7DE-F274DDD8D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8E9491A-BD64-4154-86D9-524239E0C9B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50F41F6-9155-46B7-8819-A79567FE9B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74A0AA1-7EFB-463B-98ED-65342A0DAC3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EC0EBBB-BDB3-42FF-AA86-C89A392A56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18761FD-85C1-48B1-A3F9-CFCDBBC171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C949474-658D-44B0-8C42-AC47EFC843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EDD664B-AEFF-4045-92EB-32517275D6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0B0FE39-9486-4870-823C-2D83DF785D9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A7C9EC6-C4DF-4C90-92DC-BBAB95FB6F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61DF7A7-A986-45F3-AE21-C606B8C55E8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2BD9C3-4D7E-4D51-8EB5-B2526010C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24C3E5E-7E71-4B06-9D16-65DAA8B773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353CDD8-AEA2-4604-946A-C0F7ED2FD0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3582F3E-717D-45FE-A28D-E596011652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0F72F47-B7B8-4EAF-9861-6625AEE4AC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2DE4E94-53A7-48CA-B875-8CB9930E4CF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BE118B3-CCB0-4ABE-B3AC-71AC79524A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4475526-D952-4E46-8BEF-64938DE8B89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E9597F1-1789-454D-9323-478C087C91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6FB570C-FFB2-4FC0-8866-090937B9426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E0B91C0-4BC0-4760-A345-651CF756FD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6A62467-26F6-44AA-9C5E-A5E0C20BE9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B5E2005-1703-4D61-9B47-929E16D3BC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C932980-84B1-4D3F-A939-3179949B7C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B51B12-3B2A-496B-AF28-73356BCC25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33353CE-865E-436D-A498-0277548728D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9560400-1645-4C1E-9F75-ACF21BC08F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E5F6452-157D-4A84-87BF-345154131DE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B2F5ACE-E735-4D71-AA4F-7BC225ACC2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BF31DC0-9C4D-42C2-848E-D0A503D449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9822332-5933-4A56-AFA3-7385EB6A62C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F0F0F9D-192C-4BCD-B861-34D8D5AB6D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E838E4C-E9B2-41D8-B9B7-51D195334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6257934-F4FA-45A9-91C1-ECC4C42238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4F23457-0FCE-412F-A9AB-7A0955A678D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4E563313-2636-4D23-853E-052D3CE4007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A3AB59B-6FA6-4FEA-AB36-BB6C11F5F0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AC845D-033D-4F65-9D33-F83E38B5B4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6C651E3-5783-4A03-92E4-5D7FAFBFBA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8FAA06A-255A-4432-ACD4-777A281163B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F6054C6-0E54-40FB-B75E-9818718448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63D483D-33FB-4A00-8355-2EAAAE7B773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0BDFF0E-065B-4992-B0C2-4949F5B17B4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2FDC24D-6153-463D-8C10-DD95993D2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67CE3E3-B302-4EA3-8912-FAA9C477A4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E256BB8-C9DF-4205-9AF9-8DBC705AB14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69694A5-7A99-4AFA-A567-6F5EDDFBFF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3BB88A8-0922-41B8-A4AB-58AC5998B7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B10BCA5-A008-478A-A123-E21B413D3A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FFEA157-37EC-4819-9278-E59C2A88CC4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1044B1-3C82-4A27-A4D9-DD6A50C452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19E3840-C1D8-4E56-AE62-F206782183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E2A135B-5B3F-4BE4-84D3-B65FCB32473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2F8F7CC-E702-4109-BFA2-FC2BFD0E3F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F658C3B-2353-4EBF-8618-C1C366D933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F3DDF4F-0847-4D40-942F-C2403B3E27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8EA853E-C794-48BF-BAB9-429EB56A26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8D0E17F-18D7-4725-B0CA-764CDECDC7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97570B7-4E27-4A28-9FCE-E19EA86F3F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520C38B-8AF9-427C-A511-8C12CD37E5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4DAFBD6-2DA8-49B8-8909-710ABE86BF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F0ED025-8E92-4B43-A1E8-C255E9C9BF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C9A89AD-2DDD-4C2C-BD07-C0FE94C487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C3F359-C96A-49D9-A30D-523589A93D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65A64B5-FA96-4543-9F1E-6214F28F212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5998E46-12B5-4B00-AD03-4EAE66846B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9373F-0EC6-4CCF-A21A-8D75F3EBEF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EC77C-C8A3-4157-B2AE-830B3EAC5CE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3C921-9EE5-46BA-9AA5-894AA5C7C6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37841-B3BE-42D7-88B7-A370EF40AB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8846B-0557-4E4F-ACDD-D8FF82EB8DE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33011-BAA4-44A6-B4C9-5FC2B00E89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EF3C9-F402-4424-8970-ED0862EE3B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718EA-90C0-4CC1-9875-8DC48F5E49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CFA01-8149-4143-9D98-57256D3A3B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8B22C-630B-4544-A05F-05A5C4201F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F1BCD-DDEB-45AE-9FF0-7E76ABDC21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CF806-7C6B-4C43-BC70-EDB659E4A5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CB63D-6ADA-4560-8E72-E01263A5E0E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41" name=""/>
          <p:cNvGrpSpPr/>
          <p:nvPr/>
        </p:nvGrpSpPr>
        <p:grpSpPr>
          <a:xfrm>
            <a:off x="0" y="115920"/>
            <a:ext cx="9140760" cy="6548400"/>
            <a:chOff x="0" y="115920"/>
            <a:chExt cx="9140760" cy="6548400"/>
          </a:xfrm>
        </p:grpSpPr>
        <p:grpSp>
          <p:nvGrpSpPr>
            <p:cNvPr id="1442" name=""/>
            <p:cNvGrpSpPr/>
            <p:nvPr/>
          </p:nvGrpSpPr>
          <p:grpSpPr>
            <a:xfrm>
              <a:off x="0" y="115920"/>
              <a:ext cx="9140760" cy="6548400"/>
              <a:chOff x="0" y="115920"/>
              <a:chExt cx="9140760" cy="6548400"/>
            </a:xfrm>
          </p:grpSpPr>
          <p:sp>
            <p:nvSpPr>
              <p:cNvPr id="1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50" name=""/>
          <p:cNvGrpSpPr/>
          <p:nvPr/>
        </p:nvGrpSpPr>
        <p:grpSpPr>
          <a:xfrm>
            <a:off x="0" y="115920"/>
            <a:ext cx="9140760" cy="6548400"/>
            <a:chOff x="0" y="115920"/>
            <a:chExt cx="9140760" cy="6548400"/>
          </a:xfrm>
        </p:grpSpPr>
        <p:grpSp>
          <p:nvGrpSpPr>
            <p:cNvPr id="1451" name=""/>
            <p:cNvGrpSpPr/>
            <p:nvPr/>
          </p:nvGrpSpPr>
          <p:grpSpPr>
            <a:xfrm>
              <a:off x="0" y="115920"/>
              <a:ext cx="9140760" cy="6548400"/>
              <a:chOff x="0" y="115920"/>
              <a:chExt cx="9140760" cy="6548400"/>
            </a:xfrm>
          </p:grpSpPr>
          <p:sp>
            <p:nvSpPr>
              <p:cNvPr id="1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7"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9" name=""/>
          <p:cNvGrpSpPr/>
          <p:nvPr/>
        </p:nvGrpSpPr>
        <p:grpSpPr>
          <a:xfrm>
            <a:off x="0" y="115920"/>
            <a:ext cx="9140760" cy="6548400"/>
            <a:chOff x="0" y="115920"/>
            <a:chExt cx="9140760" cy="6548400"/>
          </a:xfrm>
        </p:grpSpPr>
        <p:grpSp>
          <p:nvGrpSpPr>
            <p:cNvPr id="1460" name=""/>
            <p:cNvGrpSpPr/>
            <p:nvPr/>
          </p:nvGrpSpPr>
          <p:grpSpPr>
            <a:xfrm>
              <a:off x="0" y="115920"/>
              <a:ext cx="9140760" cy="6548400"/>
              <a:chOff x="0" y="115920"/>
              <a:chExt cx="9140760" cy="6548400"/>
            </a:xfrm>
          </p:grpSpPr>
          <p:sp>
            <p:nvSpPr>
              <p:cNvPr id="1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6"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8" name=""/>
          <p:cNvGrpSpPr/>
          <p:nvPr/>
        </p:nvGrpSpPr>
        <p:grpSpPr>
          <a:xfrm>
            <a:off x="0" y="115920"/>
            <a:ext cx="9140760" cy="6548400"/>
            <a:chOff x="0" y="115920"/>
            <a:chExt cx="9140760" cy="6548400"/>
          </a:xfrm>
        </p:grpSpPr>
        <p:grpSp>
          <p:nvGrpSpPr>
            <p:cNvPr id="1469" name=""/>
            <p:cNvGrpSpPr/>
            <p:nvPr/>
          </p:nvGrpSpPr>
          <p:grpSpPr>
            <a:xfrm>
              <a:off x="0" y="115920"/>
              <a:ext cx="9140760" cy="6548400"/>
              <a:chOff x="0" y="115920"/>
              <a:chExt cx="9140760" cy="6548400"/>
            </a:xfrm>
          </p:grpSpPr>
          <p:sp>
            <p:nvSpPr>
              <p:cNvPr id="1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5" name=""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7" name=""/>
          <p:cNvGrpSpPr/>
          <p:nvPr/>
        </p:nvGrpSpPr>
        <p:grpSpPr>
          <a:xfrm>
            <a:off x="0" y="115920"/>
            <a:ext cx="9140760" cy="6548400"/>
            <a:chOff x="0" y="115920"/>
            <a:chExt cx="9140760" cy="6548400"/>
          </a:xfrm>
        </p:grpSpPr>
        <p:grpSp>
          <p:nvGrpSpPr>
            <p:cNvPr id="1478" name=""/>
            <p:cNvGrpSpPr/>
            <p:nvPr/>
          </p:nvGrpSpPr>
          <p:grpSpPr>
            <a:xfrm>
              <a:off x="0" y="115920"/>
              <a:ext cx="9140760" cy="6548400"/>
              <a:chOff x="0" y="115920"/>
              <a:chExt cx="9140760" cy="6548400"/>
            </a:xfrm>
          </p:grpSpPr>
          <p:sp>
            <p:nvSpPr>
              <p:cNvPr id="1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4" name=""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6" name=""/>
          <p:cNvGrpSpPr/>
          <p:nvPr/>
        </p:nvGrpSpPr>
        <p:grpSpPr>
          <a:xfrm>
            <a:off x="0" y="115920"/>
            <a:ext cx="9140760" cy="6548400"/>
            <a:chOff x="0" y="115920"/>
            <a:chExt cx="9140760" cy="6548400"/>
          </a:xfrm>
        </p:grpSpPr>
        <p:grpSp>
          <p:nvGrpSpPr>
            <p:cNvPr id="1487" name=""/>
            <p:cNvGrpSpPr/>
            <p:nvPr/>
          </p:nvGrpSpPr>
          <p:grpSpPr>
            <a:xfrm>
              <a:off x="0" y="115920"/>
              <a:ext cx="9140760" cy="6548400"/>
              <a:chOff x="0" y="115920"/>
              <a:chExt cx="9140760" cy="6548400"/>
            </a:xfrm>
          </p:grpSpPr>
          <p:sp>
            <p:nvSpPr>
              <p:cNvPr id="1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5" name=""/>
          <p:cNvGrpSpPr/>
          <p:nvPr/>
        </p:nvGrpSpPr>
        <p:grpSpPr>
          <a:xfrm>
            <a:off x="0" y="115920"/>
            <a:ext cx="9140760" cy="6548400"/>
            <a:chOff x="0" y="115920"/>
            <a:chExt cx="9140760" cy="6548400"/>
          </a:xfrm>
        </p:grpSpPr>
        <p:grpSp>
          <p:nvGrpSpPr>
            <p:cNvPr id="1496" name=""/>
            <p:cNvGrpSpPr/>
            <p:nvPr/>
          </p:nvGrpSpPr>
          <p:grpSpPr>
            <a:xfrm>
              <a:off x="0" y="115920"/>
              <a:ext cx="9140760" cy="6548400"/>
              <a:chOff x="0" y="115920"/>
              <a:chExt cx="9140760" cy="6548400"/>
            </a:xfrm>
          </p:grpSpPr>
          <p:sp>
            <p:nvSpPr>
              <p:cNvPr id="1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2" name=""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4" name=""/>
          <p:cNvGrpSpPr/>
          <p:nvPr/>
        </p:nvGrpSpPr>
        <p:grpSpPr>
          <a:xfrm>
            <a:off x="0" y="115920"/>
            <a:ext cx="9140760" cy="6548400"/>
            <a:chOff x="0" y="115920"/>
            <a:chExt cx="9140760" cy="6548400"/>
          </a:xfrm>
        </p:grpSpPr>
        <p:grpSp>
          <p:nvGrpSpPr>
            <p:cNvPr id="1505" name=""/>
            <p:cNvGrpSpPr/>
            <p:nvPr/>
          </p:nvGrpSpPr>
          <p:grpSpPr>
            <a:xfrm>
              <a:off x="0" y="115920"/>
              <a:ext cx="9140760" cy="6548400"/>
              <a:chOff x="0" y="115920"/>
              <a:chExt cx="9140760" cy="6548400"/>
            </a:xfrm>
          </p:grpSpPr>
          <p:sp>
            <p:nvSpPr>
              <p:cNvPr id="1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468360" y="1052640"/>
            <a:ext cx="8496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3" name=""/>
          <p:cNvGrpSpPr/>
          <p:nvPr/>
        </p:nvGrpSpPr>
        <p:grpSpPr>
          <a:xfrm>
            <a:off x="0" y="115920"/>
            <a:ext cx="9140760" cy="6548400"/>
            <a:chOff x="0" y="115920"/>
            <a:chExt cx="9140760" cy="6548400"/>
          </a:xfrm>
        </p:grpSpPr>
        <p:grpSp>
          <p:nvGrpSpPr>
            <p:cNvPr id="1514" name=""/>
            <p:cNvGrpSpPr/>
            <p:nvPr/>
          </p:nvGrpSpPr>
          <p:grpSpPr>
            <a:xfrm>
              <a:off x="0" y="115920"/>
              <a:ext cx="9140760" cy="6548400"/>
              <a:chOff x="0" y="115920"/>
              <a:chExt cx="9140760" cy="6548400"/>
            </a:xfrm>
          </p:grpSpPr>
          <p:sp>
            <p:nvSpPr>
              <p:cNvPr id="1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1392120"/>
            <a:ext cx="874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2" name=""/>
          <p:cNvGrpSpPr/>
          <p:nvPr/>
        </p:nvGrpSpPr>
        <p:grpSpPr>
          <a:xfrm>
            <a:off x="0" y="115920"/>
            <a:ext cx="9140760" cy="6548400"/>
            <a:chOff x="0" y="115920"/>
            <a:chExt cx="9140760" cy="6548400"/>
          </a:xfrm>
        </p:grpSpPr>
        <p:grpSp>
          <p:nvGrpSpPr>
            <p:cNvPr id="1523" name=""/>
            <p:cNvGrpSpPr/>
            <p:nvPr/>
          </p:nvGrpSpPr>
          <p:grpSpPr>
            <a:xfrm>
              <a:off x="0" y="115920"/>
              <a:ext cx="9140760" cy="6548400"/>
              <a:chOff x="0" y="115920"/>
              <a:chExt cx="9140760" cy="6548400"/>
            </a:xfrm>
          </p:grpSpPr>
          <p:sp>
            <p:nvSpPr>
              <p:cNvPr id="1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31" name=""/>
          <p:cNvGrpSpPr/>
          <p:nvPr/>
        </p:nvGrpSpPr>
        <p:grpSpPr>
          <a:xfrm>
            <a:off x="0" y="115920"/>
            <a:ext cx="9140760" cy="6548400"/>
            <a:chOff x="0" y="115920"/>
            <a:chExt cx="9140760" cy="6548400"/>
          </a:xfrm>
        </p:grpSpPr>
        <p:grpSp>
          <p:nvGrpSpPr>
            <p:cNvPr id="1532" name=""/>
            <p:cNvGrpSpPr/>
            <p:nvPr/>
          </p:nvGrpSpPr>
          <p:grpSpPr>
            <a:xfrm>
              <a:off x="0" y="115920"/>
              <a:ext cx="9140760" cy="6548400"/>
              <a:chOff x="0" y="115920"/>
              <a:chExt cx="9140760" cy="6548400"/>
            </a:xfrm>
          </p:grpSpPr>
          <p:sp>
            <p:nvSpPr>
              <p:cNvPr id="1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8" name=""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40" name=""/>
          <p:cNvGrpSpPr/>
          <p:nvPr/>
        </p:nvGrpSpPr>
        <p:grpSpPr>
          <a:xfrm>
            <a:off x="0" y="115920"/>
            <a:ext cx="9140760" cy="6548400"/>
            <a:chOff x="0" y="115920"/>
            <a:chExt cx="9140760" cy="6548400"/>
          </a:xfrm>
        </p:grpSpPr>
        <p:grpSp>
          <p:nvGrpSpPr>
            <p:cNvPr id="1541" name=""/>
            <p:cNvGrpSpPr/>
            <p:nvPr/>
          </p:nvGrpSpPr>
          <p:grpSpPr>
            <a:xfrm>
              <a:off x="0" y="115920"/>
              <a:ext cx="9140760" cy="6548400"/>
              <a:chOff x="0" y="115920"/>
              <a:chExt cx="9140760" cy="6548400"/>
            </a:xfrm>
          </p:grpSpPr>
          <p:sp>
            <p:nvSpPr>
              <p:cNvPr id="1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9" name=""/>
          <p:cNvGrpSpPr/>
          <p:nvPr/>
        </p:nvGrpSpPr>
        <p:grpSpPr>
          <a:xfrm>
            <a:off x="0" y="115920"/>
            <a:ext cx="9140760" cy="6548400"/>
            <a:chOff x="0" y="115920"/>
            <a:chExt cx="9140760" cy="6548400"/>
          </a:xfrm>
        </p:grpSpPr>
        <p:grpSp>
          <p:nvGrpSpPr>
            <p:cNvPr id="1550" name=""/>
            <p:cNvGrpSpPr/>
            <p:nvPr/>
          </p:nvGrpSpPr>
          <p:grpSpPr>
            <a:xfrm>
              <a:off x="0" y="115920"/>
              <a:ext cx="9140760" cy="6548400"/>
              <a:chOff x="0" y="115920"/>
              <a:chExt cx="9140760" cy="6548400"/>
            </a:xfrm>
          </p:grpSpPr>
          <p:sp>
            <p:nvSpPr>
              <p:cNvPr id="1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6" name=""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8" name=""/>
          <p:cNvGrpSpPr/>
          <p:nvPr/>
        </p:nvGrpSpPr>
        <p:grpSpPr>
          <a:xfrm>
            <a:off x="0" y="115920"/>
            <a:ext cx="9140760" cy="6548400"/>
            <a:chOff x="0" y="115920"/>
            <a:chExt cx="9140760" cy="6548400"/>
          </a:xfrm>
        </p:grpSpPr>
        <p:grpSp>
          <p:nvGrpSpPr>
            <p:cNvPr id="1559" name=""/>
            <p:cNvGrpSpPr/>
            <p:nvPr/>
          </p:nvGrpSpPr>
          <p:grpSpPr>
            <a:xfrm>
              <a:off x="0" y="115920"/>
              <a:ext cx="9140760" cy="6548400"/>
              <a:chOff x="0" y="115920"/>
              <a:chExt cx="9140760" cy="6548400"/>
            </a:xfrm>
          </p:grpSpPr>
          <p:sp>
            <p:nvSpPr>
              <p:cNvPr id="1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5" name=""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7" name=""/>
          <p:cNvGrpSpPr/>
          <p:nvPr/>
        </p:nvGrpSpPr>
        <p:grpSpPr>
          <a:xfrm>
            <a:off x="0" y="115920"/>
            <a:ext cx="9140760" cy="6548400"/>
            <a:chOff x="0" y="115920"/>
            <a:chExt cx="9140760" cy="6548400"/>
          </a:xfrm>
        </p:grpSpPr>
        <p:grpSp>
          <p:nvGrpSpPr>
            <p:cNvPr id="1568" name=""/>
            <p:cNvGrpSpPr/>
            <p:nvPr/>
          </p:nvGrpSpPr>
          <p:grpSpPr>
            <a:xfrm>
              <a:off x="0" y="115920"/>
              <a:ext cx="9140760" cy="6548400"/>
              <a:chOff x="0" y="115920"/>
              <a:chExt cx="9140760" cy="6548400"/>
            </a:xfrm>
          </p:grpSpPr>
          <p:sp>
            <p:nvSpPr>
              <p:cNvPr id="1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4" name=""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5" name=""/>
          <p:cNvGrpSpPr/>
          <p:nvPr/>
        </p:nvGrpSpPr>
        <p:grpSpPr>
          <a:xfrm>
            <a:off x="0" y="115920"/>
            <a:ext cx="9140760" cy="6548400"/>
            <a:chOff x="0" y="115920"/>
            <a:chExt cx="9140760" cy="6548400"/>
          </a:xfrm>
        </p:grpSpPr>
        <p:grpSp>
          <p:nvGrpSpPr>
            <p:cNvPr id="1586" name=""/>
            <p:cNvGrpSpPr/>
            <p:nvPr/>
          </p:nvGrpSpPr>
          <p:grpSpPr>
            <a:xfrm>
              <a:off x="0" y="115920"/>
              <a:ext cx="9140760" cy="6548400"/>
              <a:chOff x="0" y="115920"/>
              <a:chExt cx="9140760" cy="6548400"/>
            </a:xfrm>
          </p:grpSpPr>
          <p:sp>
            <p:nvSpPr>
              <p:cNvPr id="1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11280" y="1392120"/>
            <a:ext cx="8281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4" name=""/>
          <p:cNvGrpSpPr/>
          <p:nvPr/>
        </p:nvGrpSpPr>
        <p:grpSpPr>
          <a:xfrm>
            <a:off x="0" y="115920"/>
            <a:ext cx="9140760" cy="6548400"/>
            <a:chOff x="0" y="115920"/>
            <a:chExt cx="9140760" cy="6548400"/>
          </a:xfrm>
        </p:grpSpPr>
        <p:grpSp>
          <p:nvGrpSpPr>
            <p:cNvPr id="1595" name=""/>
            <p:cNvGrpSpPr/>
            <p:nvPr/>
          </p:nvGrpSpPr>
          <p:grpSpPr>
            <a:xfrm>
              <a:off x="0" y="115920"/>
              <a:ext cx="9140760" cy="6548400"/>
              <a:chOff x="0" y="115920"/>
              <a:chExt cx="9140760" cy="6548400"/>
            </a:xfrm>
          </p:grpSpPr>
          <p:sp>
            <p:nvSpPr>
              <p:cNvPr id="1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3" name=""/>
          <p:cNvGrpSpPr/>
          <p:nvPr/>
        </p:nvGrpSpPr>
        <p:grpSpPr>
          <a:xfrm>
            <a:off x="0" y="115920"/>
            <a:ext cx="9140760" cy="6548400"/>
            <a:chOff x="0" y="115920"/>
            <a:chExt cx="9140760" cy="6548400"/>
          </a:xfrm>
        </p:grpSpPr>
        <p:grpSp>
          <p:nvGrpSpPr>
            <p:cNvPr id="1604" name=""/>
            <p:cNvGrpSpPr/>
            <p:nvPr/>
          </p:nvGrpSpPr>
          <p:grpSpPr>
            <a:xfrm>
              <a:off x="0" y="115920"/>
              <a:ext cx="9140760" cy="6548400"/>
              <a:chOff x="0" y="115920"/>
              <a:chExt cx="9140760" cy="6548400"/>
            </a:xfrm>
          </p:grpSpPr>
          <p:sp>
            <p:nvSpPr>
              <p:cNvPr id="1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12" name="" descr=""/>
          <p:cNvPicPr/>
          <p:nvPr/>
        </p:nvPicPr>
        <p:blipFill>
          <a:blip r:embed="rId1"/>
          <a:stretch/>
        </p:blipFill>
        <p:spPr>
          <a:xfrm>
            <a:off x="0" y="0"/>
            <a:ext cx="9144000" cy="1368360"/>
          </a:xfrm>
          <a:prstGeom prst="rect">
            <a:avLst/>
          </a:prstGeom>
          <a:ln w="0">
            <a:noFill/>
          </a:ln>
        </p:spPr>
      </p:pic>
      <p:pic>
        <p:nvPicPr>
          <p:cNvPr id="1613" name="" descr=""/>
          <p:cNvPicPr/>
          <p:nvPr/>
        </p:nvPicPr>
        <p:blipFill>
          <a:blip r:embed="rId2"/>
          <a:stretch/>
        </p:blipFill>
        <p:spPr>
          <a:xfrm>
            <a:off x="1258920" y="2060640"/>
            <a:ext cx="1297080" cy="1528560"/>
          </a:xfrm>
          <a:prstGeom prst="rect">
            <a:avLst/>
          </a:prstGeom>
          <a:ln w="0">
            <a:noFill/>
          </a:ln>
        </p:spPr>
      </p:pic>
      <p:pic>
        <p:nvPicPr>
          <p:cNvPr id="1614" name="" descr=""/>
          <p:cNvPicPr/>
          <p:nvPr/>
        </p:nvPicPr>
        <p:blipFill>
          <a:blip r:embed="rId3"/>
          <a:stretch/>
        </p:blipFill>
        <p:spPr>
          <a:xfrm>
            <a:off x="6948360" y="1989000"/>
            <a:ext cx="1444680" cy="1573200"/>
          </a:xfrm>
          <a:prstGeom prst="rect">
            <a:avLst/>
          </a:prstGeom>
          <a:ln w="0">
            <a:noFill/>
          </a:ln>
        </p:spPr>
      </p:pic>
      <p:sp>
        <p:nvSpPr>
          <p:cNvPr id="161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1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981000"/>
            <a:ext cx="8101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4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1125360"/>
            <a:ext cx="86421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052640"/>
            <a:ext cx="8713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5092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611280" y="1413000"/>
            <a:ext cx="820872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3964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2400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052640"/>
            <a:ext cx="86421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4" name=""/>
          <p:cNvGrpSpPr/>
          <p:nvPr/>
        </p:nvGrpSpPr>
        <p:grpSpPr>
          <a:xfrm>
            <a:off x="0" y="115920"/>
            <a:ext cx="9140760" cy="6548400"/>
            <a:chOff x="0" y="115920"/>
            <a:chExt cx="9140760" cy="6548400"/>
          </a:xfrm>
        </p:grpSpPr>
        <p:grpSp>
          <p:nvGrpSpPr>
            <p:cNvPr id="1415" name=""/>
            <p:cNvGrpSpPr/>
            <p:nvPr/>
          </p:nvGrpSpPr>
          <p:grpSpPr>
            <a:xfrm>
              <a:off x="0" y="115920"/>
              <a:ext cx="9140760" cy="6548400"/>
              <a:chOff x="0" y="115920"/>
              <a:chExt cx="9140760" cy="6548400"/>
            </a:xfrm>
          </p:grpSpPr>
          <p:sp>
            <p:nvSpPr>
              <p:cNvPr id="1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8:25Z</dcterms:modified>
  <cp:revision>176</cp:revision>
  <dc:subject/>
  <dc:title>Παρουσίαση του PowerPoint</dc:title>
</cp:coreProperties>
</file>